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4338-7488-4D24-9B90-D1077BA47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87DF-759A-4604-85A5-44BB005C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DA5A-6FF6-4772-8F81-B6D1C6B35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B159-B945-47B3-8FB1-CA4F302CF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19D3-F730-4787-8883-482C2D651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7CAF3-AF98-48EF-9C0C-1224BDE1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0778-DCF5-4A3A-83EE-1E35BA0A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B6B1-8FF7-49D8-A983-741F750C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20B3-C17B-4C39-8C18-30D1C18D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1696-05F1-46D3-AACF-6A43D5F3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5254-9B63-476D-B643-AE7AA5C0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B599-1404-4571-A6A3-3161D5EE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EE21-B844-4BC3-A149-391EE28D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771C-7723-4909-9FE8-BAF355BD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331E-2B6A-4501-9C66-9DD0756C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9EC3-1876-48AC-978D-68ABBD0C3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49ED-4ACE-4006-888B-20548E2D5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D786-511A-4068-8248-AF664C70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14A6-889C-45D5-906F-B36068AD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3965-AE6B-4F73-8A15-2253A0E7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8D7C-5809-4953-B5CB-FE3B41D5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4303-0C32-44F6-A55C-9E90A093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137A-D021-458D-9804-163122BF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ABCA-A83F-49F9-A024-36CD2B0E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58D8-2831-4E5A-8E26-5CDD85F94B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AF8D-86F1-4886-9FE0-E16C744F41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3640" y="1676160"/>
            <a:ext cx="856908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e5ffff"/>
                </a:solidFill>
                <a:latin typeface="Tahoma"/>
              </a:rPr>
              <a:t>NOI ŞI EMOŢIILE NOASTRE...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19280" y="3933360"/>
            <a:ext cx="7200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NOI ŞI DESENELE NOASTRE..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LA CALCULATOR POTI SA ADUCI APROAPE DE TINE TOT CE ITI PLAC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4000" y="1989000"/>
            <a:ext cx="4962240" cy="3102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780000" y="3429000"/>
            <a:ext cx="511956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UNT LUCRURI CARE SUNT MEREU CU NOI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211640" y="1844640"/>
            <a:ext cx="4608360" cy="2881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39640" y="3662280"/>
            <a:ext cx="475308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e5ffff"/>
                </a:solidFill>
                <a:latin typeface="Tahoma"/>
              </a:rPr>
              <a:t>LA CALCULATOR, POŢI DESENA ORICE..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284720" y="1915920"/>
            <a:ext cx="4572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ahoma"/>
              </a:rPr>
              <a:t>CHIAR ŞI O CASĂ..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3610080" cy="2255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971640" y="4292640"/>
            <a:ext cx="3537000" cy="2209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643280" y="3068640"/>
            <a:ext cx="406260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e5ffff"/>
                </a:solidFill>
                <a:latin typeface="Tahoma"/>
              </a:rPr>
              <a:t>CAND ESTI LA  CALCULATOR, AI CE JUCĂRII DOREŞTI..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8360" y="2565360"/>
            <a:ext cx="4038480" cy="2524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081760" y="1981080"/>
            <a:ext cx="3170160" cy="1981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148360" y="4508640"/>
            <a:ext cx="3170160" cy="19810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700360" y="4724280"/>
            <a:ext cx="1942920" cy="865440"/>
          </a:xfrm>
          <a:prstGeom prst="ellipse">
            <a:avLst/>
          </a:prstGeom>
          <a:gradFill rotWithShape="0">
            <a:gsLst>
              <a:gs pos="0">
                <a:srgbClr val="003366"/>
              </a:gs>
              <a:gs pos="100000">
                <a:srgbClr val="54769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UN CASETOF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88000" y="3573360"/>
            <a:ext cx="1943280" cy="865440"/>
          </a:xfrm>
          <a:prstGeom prst="ellipse">
            <a:avLst/>
          </a:prstGeom>
          <a:gradFill rotWithShape="0">
            <a:gsLst>
              <a:gs pos="0">
                <a:srgbClr val="003366"/>
              </a:gs>
              <a:gs pos="100000">
                <a:srgbClr val="54769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O MI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32360" y="5805360"/>
            <a:ext cx="1943280" cy="865440"/>
          </a:xfrm>
          <a:prstGeom prst="ellipse">
            <a:avLst/>
          </a:prstGeom>
          <a:gradFill rotWithShape="0">
            <a:gsLst>
              <a:gs pos="0">
                <a:srgbClr val="003366"/>
              </a:gs>
              <a:gs pos="100000">
                <a:srgbClr val="54769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PALETE DE TEN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e5ffff"/>
                </a:solidFill>
                <a:latin typeface="Tahoma"/>
              </a:rPr>
              <a:t>LA CALCULATOR TE POTI DESENA CHIAR SI PE TINE..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076720" y="4365720"/>
            <a:ext cx="3745080" cy="2341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284720" y="1825560"/>
            <a:ext cx="3456000" cy="2160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443640" y="1916280"/>
            <a:ext cx="1943280" cy="865080"/>
          </a:xfrm>
          <a:prstGeom prst="ellipse">
            <a:avLst/>
          </a:prstGeom>
          <a:gradFill rotWithShape="0">
            <a:gsLst>
              <a:gs pos="0">
                <a:srgbClr val="003366"/>
              </a:gs>
              <a:gs pos="100000">
                <a:srgbClr val="54769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CAND ESTI VESE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67280" y="4149720"/>
            <a:ext cx="1942920" cy="865080"/>
          </a:xfrm>
          <a:prstGeom prst="ellipse">
            <a:avLst/>
          </a:prstGeom>
          <a:gradFill rotWithShape="0">
            <a:gsLst>
              <a:gs pos="0">
                <a:srgbClr val="003366"/>
              </a:gs>
              <a:gs pos="100000">
                <a:srgbClr val="54769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SAU TRI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79280" y="2997360"/>
            <a:ext cx="3810240" cy="23810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124000" y="2781360"/>
            <a:ext cx="1943280" cy="865080"/>
          </a:xfrm>
          <a:prstGeom prst="ellipse">
            <a:avLst/>
          </a:prstGeom>
          <a:gradFill rotWithShape="0">
            <a:gsLst>
              <a:gs pos="0">
                <a:srgbClr val="003366"/>
              </a:gs>
              <a:gs pos="100000">
                <a:srgbClr val="54769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SAU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ERI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INE SUNTEM NOI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79280" y="3645000"/>
            <a:ext cx="4751640" cy="2970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067280" y="1628640"/>
            <a:ext cx="4762440" cy="2976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588000" y="1413000"/>
            <a:ext cx="2303640" cy="1224000"/>
          </a:xfrm>
          <a:prstGeom prst="ellipse">
            <a:avLst/>
          </a:prstGeom>
          <a:gradFill rotWithShape="0">
            <a:gsLst>
              <a:gs pos="0">
                <a:srgbClr val="003366"/>
              </a:gs>
              <a:gs pos="100000">
                <a:srgbClr val="54769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DAL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87640" y="4869000"/>
            <a:ext cx="2376360" cy="1511280"/>
          </a:xfrm>
          <a:prstGeom prst="ellipse">
            <a:avLst/>
          </a:prstGeom>
          <a:gradFill rotWithShape="0">
            <a:gsLst>
              <a:gs pos="0">
                <a:srgbClr val="003366"/>
              </a:gs>
              <a:gs pos="100000">
                <a:srgbClr val="54769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RED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VA MULTUMIM PENTRU CE AM INVATA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DALI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OREDA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RISTI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ANI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DALI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00:11:26Z</dcterms:created>
  <dc:creator>Carmen</dc:creator>
  <dc:description/>
  <dc:language>en-US</dc:language>
  <cp:lastModifiedBy>curs</cp:lastModifiedBy>
  <dcterms:modified xsi:type="dcterms:W3CDTF">2011-02-25T15:12:28Z</dcterms:modified>
  <cp:revision>6</cp:revision>
  <dc:subject/>
  <dc:title>NOI ŞI EMOŢIILE NOASTRE...</dc:title>
</cp:coreProperties>
</file>